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A1DA-B18E-4BCC-BC41-96D38A87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99A4-13E5-401E-9A3F-9ABE72D3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1E6D-CA67-471D-A179-10535D57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49BF-9A52-4CC8-848C-F686202B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8391-AE0D-4762-8454-CAF5B021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2724-7ABC-4E0A-9650-8FC7C6AE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7A0D-078B-453D-BA95-DA2D23A4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FB3C-1005-410D-B28C-72B1E474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0FD5-FD3B-4747-B40F-504A9A24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BC71-8169-432A-8D9B-4392D181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20E2-3ED4-4979-B422-8285CDF8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787B-C08E-4D7B-8071-551E1F35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2D50-D0C4-43CE-8228-DEA1D917C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ews.bbc.co.uk/sport1/hi/other_sports/badminton/6951428.s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ews.bbc.co.uk/sport1/hi/other_sports/badminton/6951428.s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ews.bbc.co.uk/sport1/hi/other_sports/badminton/6951428.stm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ews.bbc.co.uk/sport1/hi/other_sports/badminton/6951428.s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ews.bbc.co.uk/sport1/hi/other_sports/badminton/6951428.s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Nathan Robertson and Gail Emm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690480"/>
            <a:ext cx="7238880" cy="5419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38080" y="533520"/>
            <a:ext cx="73915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KILLS AND TECHNIQUES/N.A.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DMIN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SS FLE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Nathan Robertson and Gail Emms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90720" y="690480"/>
            <a:ext cx="7238880" cy="5419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66680" y="533520"/>
            <a:ext cx="72392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 OF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p on skills and techniqu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ne N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tions within the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eriod Start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general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ethod of gathering data did you use in badminton last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me five different techniques we can use in badmint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are the 3 specific schedules called? (we will be using these on Thursd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Nathan Robertson and Gail Emm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609480"/>
            <a:ext cx="7239240" cy="5419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90720" y="685800"/>
            <a:ext cx="731520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nk CYCLE OF ANALY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five minutes think and then make a list of everything within the cycle of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then discuss this as a gro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724280" y="1371600"/>
            <a:ext cx="34290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Nathan Robertson and Gail Emm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690480"/>
            <a:ext cx="7238880" cy="5419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90720" y="609480"/>
            <a:ext cx="723888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parts – Parts 1 &amp; 3 completed (some re-sits necessary). Parts 2 &amp; 4 completed under exam conditions.  CLOSED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 marks is a 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pportunity to re-sit each part of the N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 to your NAB Timeline for assessment d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Nathan Robertson and Gail Emm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990720" y="690480"/>
            <a:ext cx="7238880" cy="5419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90720" y="609480"/>
            <a:ext cx="7238880" cy="52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SESSMENT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s 1 completed (Investigat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SIT opportunity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rs 2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u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s 2 exam  (Analyse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 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pt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SIT opportunity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 1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pt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 3 exam (Develo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SIT opportunity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rs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cto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 4 homework (Evaluate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urs 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SIT opportunity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.B.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Nathan Robertson and Gail Emm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690480"/>
            <a:ext cx="7238880" cy="5419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90720" y="685800"/>
            <a:ext cx="72388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CTATIONS OF YOU and U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complete a training programme which will aim to improve your performance in a stroke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o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be expected to keep a record of your training and a training diary to log your thoughts and feelings about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eturn you can expect full support and adv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ed notes to help you revise for the NAB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Nathan Robertson and Gail Emm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990720" y="690480"/>
            <a:ext cx="7238880" cy="5419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90720" y="609480"/>
            <a:ext cx="723888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d we complete our plan of a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p on skills and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ne N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tions within the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0:56:37Z</dcterms:created>
  <dc:creator>Hamilton</dc:creator>
  <dc:description/>
  <dc:language>en-US</dc:language>
  <cp:lastModifiedBy>FlemingC1</cp:lastModifiedBy>
  <dcterms:modified xsi:type="dcterms:W3CDTF">2009-08-17T10:16:38Z</dcterms:modified>
  <cp:revision>11</cp:revision>
  <dc:subject/>
  <dc:title>Slide 1</dc:title>
</cp:coreProperties>
</file>